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0011-6BBC-4B0E-990A-9E174FBA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8D17-30A3-4BE4-A61B-8A95687F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1833-1DED-4296-89D3-3CD518F8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D0C4-16C7-4B91-AC81-47E5F71E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390-50ED-4B28-9A87-7C8DC91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7F50-81F2-4F02-9EBE-F8F6A92C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450B-BE1F-4CEE-BE01-2CAC77AD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8974-96AE-4CC5-880C-D3D3EA7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484E-F147-42B1-A1B5-28686C3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6664-ED0A-4E19-8791-030F03C9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A2C8-9BB5-4C31-981C-2E49CBF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25E4-470F-4428-9912-A4397E6D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1878-41F6-46D5-88D6-E270416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BFD-6023-49C1-8025-D7907C2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D65-647F-4761-AF31-620B4F6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FDF-6D7D-42EA-BC38-7A629DF7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58E2-0DC4-494B-8276-3B4EC57E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EE11-781C-492A-A806-D21F651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F091-0B4E-478A-A581-FF2E5280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1B20-C09C-4BF1-9960-D61FE8C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786B-56A1-4F34-8037-BDF26C2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62D3-BC11-4A78-9B7B-6115547A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342E-701A-44D6-81C7-10AEA36A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7BBA-275A-4698-A2E1-A74A9C46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2E8-41A7-455B-9210-6D9A71FC1E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2F68-FC5F-44CA-98F7-2CEDCFB3B8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Aminosäuren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on: Imke Spö. und J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stell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m Abbau der Proteine zu einem Aminosäuregemisch, die durch spezifische Verfahren isoliert werden 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der Umsetzung von Halogencarbonsäuren mit Ammoni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s </a:t>
            </a: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Miller-Experiment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zeigte, wie die Aminosäuren und andere Moleküle zu Beginn der Erdgeschichte entstanden sein könnt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ndprodukte: Teer, unbedeutende Carbonsäuren, Aminosäuren (u.a. Glycin und Alani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veränderter Zusammensetzung auch Kohlenhydrate, Nucleotide und Fettsäur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1969 fand man dieselbe Aminosäurezusammensetzung in einem Meteoriten in Australi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51640" y="5589720"/>
            <a:ext cx="2592360" cy="790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 wird erhit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54920" y="3573360"/>
            <a:ext cx="208908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dampf steigt 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45080" y="476280"/>
            <a:ext cx="35989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aktionsk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than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125360"/>
            <a:ext cx="2521080" cy="79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tstehung der Aminosäu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NA 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ind zwei in helixform umeinander gewundene Doppelstr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steht aus Basen (Adenin, Guanin, Cytosin, Thymin), Zucker und Phosph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peichert sämtliche für jeden Menschen individuelle Erbinformationen, aufgrund dessen ergeben sich die vielen wissenschaftlichen Einsatzgebi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riminalbi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aterschfts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NA-Fingerprint-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rchäologie und Evolutionsforsch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ls Nahrungsergänzungsmittel für Sport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ielen lieben Dank für eure Aufmerksamkei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 Schlu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nktio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scher Aufba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teilung der Grupp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äure-Base-Eigenscha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sentielle Aminosäu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stel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A /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ssenschaftlicher Nut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rganische Säu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arbonsäuren deren funktionelle Gruppen sowohl eine Carboxyl- als auch eine Aminogruppe s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sten Bausteine der Prote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20 verschiedene Aminosäuren in den Protei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xistieren auf der Erde bereits seit 3 Mrd. Jahren (auch in Mondgestein und Meteori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ktio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fbau von Peptiden und Proteinen, aus denen wiederum Muskulatur, Zellwände, Hormone, Enzyme etc. aufgebau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 der Neurochemie spielen Aminosäuren und ihre Derivate eine wichtige Rolle als Neurotransmi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uffer= sind in der Lage den pH-Wert des Gewebes zu regul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scher Aufba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äure mit einer Carboxyl- und Aminogru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infachste ist das Gly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Um daraus weitere aufzubauen, wird ein H-Atom am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-C-Atom abgespalten und durch eine Seitenkette (-R) ersetz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Seitenkette bestimmt die chem. und physikalischen Eigenschaften der Aminosä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nteilung der Grupp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Neutrale Aminosäuren: Glycin, Alanin, Serin, Threonin, Valin, Leucin, Isoleuc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aure Aminosäuren enthalten zusätzlich eine Carboxylgruppe. Zu ihnen gehören: Arpartat, Asparagin, Glutamat, Glutam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Baische Aminosäuren enthalten zusätzlich eine Aminogruppe. Zu ihnen zählen: Arginin, Lysin, Hydroxylys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Polar: (hydrophil) Seitenkette enthält eine Hydroxyl- oder Sulfhydrylgruppe z.B. Ser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Unpolar: (hydrophob) Seitenkette enthält Kohlenwasserstoffreste z.B. Alan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äure-Base-Eigenschaf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Ungeladener Zustand existiert praktisch nic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ind Zwitterionen (Ampholyte), d.h. reagieren sowohl als Base als auch als Sä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durch Pufferfunktion des pH-Wertes im Kör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rhöhung des pH-Wertes: Wasserstoffion wird an die 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Gruppe abgegeben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positiven Kation (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3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Erniedrigung des pH-Wertes: Abgabe eines Wasserstoffions der COOH Grupp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negativ geladenen Anion (COO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Weitere wichtige Aufgabe,  gerät der pH-Wert des Gewebes nur minimal aus dem Gleichgewicht, werden viele Körperunktionen beeinträchtigt → T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748720" cy="2820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692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äure-Base-Verhal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sentielle Aminosäu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nnen vom Körper nicht selbst synthetisiert werden, sondern müssen über die Nahrung aufgenommen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i-essentiell: müssen nur bei erhöhtem Bedarf (z-B. Schwangerschaft) zugeführ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gel führt zu einem Stocken der Eiweißsynthe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bedrohliche Mangelerschein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05:57Z</dcterms:created>
  <dc:creator>Imke</dc:creator>
  <dc:description/>
  <dc:language>en-US</dc:language>
  <cp:lastModifiedBy>Imke</cp:lastModifiedBy>
  <dcterms:modified xsi:type="dcterms:W3CDTF">2006-11-16T05:26:01Z</dcterms:modified>
  <cp:revision>15</cp:revision>
  <dc:subject/>
  <dc:title>Aminosäuren</dc:title>
</cp:coreProperties>
</file>